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2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30.png" ContentType="image/png"/>
  <Override PartName="/ppt/media/image5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3729EC-B1C8-4824-A33A-100C5558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EA5E89-EC58-4B20-9D68-6BDDFFD20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9B45FC-101C-4887-B0F9-C87BB22FE6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510-CC9D-48A3-8C0D-E1CF4A79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5A2-1839-4698-A7E0-46178EF0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C79-AA40-4C2F-8550-A0B36BF7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975-4F03-4C2E-BAA6-60723D8A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990B-D5C2-44BD-8CD1-EEAA2BFE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9852-07AC-461C-9A4B-8048460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081C-AC28-49A9-8D5D-638D36D7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D175-4850-4C10-BD22-C2C9D320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A70F-66EB-4C4F-8263-953173CC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A258-324E-4A5F-91C2-08527977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DB64-D78F-4FC0-A1CA-4B97FE7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5C8-E22E-4A4D-9FCF-A9185672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812F-5241-4F9D-9874-AFF1EA2C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2C7B-19EF-4DBC-8B3F-611E21B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19A4-EC89-4324-8F63-4CBA1236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FE48-B95C-4E3C-B793-5DE93A3F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65C-D168-4CFF-9DA8-CEDC2CFF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58D-CCF6-451C-A3E8-082743C5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0C3-C6FB-4F9D-A962-ABF70D1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434-1F7A-467F-A187-C1D0E0D7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7FB-3133-4BE3-BFEA-BCFED142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892-E7DB-4737-99A7-227FAD73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3C4-959A-4C5E-A320-46B04B80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B07-D88A-4685-93A8-234AB459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852E-F84B-4B84-A588-F153FEF77CA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394-6EF0-4987-91C6-7C509833871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pbs.org/wgbh/aia/part4/4h1567b.htm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7778880" cy="334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Francis Scott Key 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rites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r Spangled Banner</a:t>
            </a:r>
            <a:r>
              <a:rPr b="1" lang="ja-JP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ational Anthem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.S. won at New Orlea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eaty of Ghent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Ended the war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Both sides didn</a:t>
            </a:r>
            <a:r>
              <a:rPr b="0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 think they could wi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howed the U.S. could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nd up to the British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Picture 5" descr="287538w"/>
          <p:cNvPicPr/>
          <p:nvPr/>
        </p:nvPicPr>
        <p:blipFill>
          <a:blip r:embed="rId1"/>
          <a:stretch/>
        </p:blipFill>
        <p:spPr>
          <a:xfrm>
            <a:off x="6956280" y="533520"/>
            <a:ext cx="218772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327776w"/>
          <p:cNvPicPr/>
          <p:nvPr/>
        </p:nvPicPr>
        <p:blipFill>
          <a:blip r:embed="rId2"/>
          <a:stretch/>
        </p:blipFill>
        <p:spPr>
          <a:xfrm>
            <a:off x="5410080" y="4448160"/>
            <a:ext cx="320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-36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**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EXAS Republic: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 Americans settle in Texas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Belongs to new country- Mexico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Mexico wants Americans to learn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customs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*No more Americans: Texas is MAD!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 Texas asks to leave Mexico and be on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heir own, Mexico says NO!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 Houston chosen as leader of Texas Army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5" descr="271724w"/>
          <p:cNvPicPr/>
          <p:nvPr/>
        </p:nvPicPr>
        <p:blipFill>
          <a:blip r:embed="rId2"/>
          <a:stretch/>
        </p:blipFill>
        <p:spPr>
          <a:xfrm>
            <a:off x="7391520" y="0"/>
            <a:ext cx="16412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-150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Battle for Independ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Mexico is winning at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Alamo (1836)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xans stationed at Alamo; Mexico v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xas. Mexico breaks through and kills all Tex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Texans Recover- Capture Santa Anna (Dictato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9" name="Picture 5" descr="623524w"/>
          <p:cNvPicPr/>
          <p:nvPr/>
        </p:nvPicPr>
        <p:blipFill>
          <a:blip r:embed="rId1"/>
          <a:stretch/>
        </p:blipFill>
        <p:spPr>
          <a:xfrm>
            <a:off x="457200" y="2895480"/>
            <a:ext cx="3857760" cy="266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290670w"/>
          <p:cNvPicPr/>
          <p:nvPr/>
        </p:nvPicPr>
        <p:blipFill>
          <a:blip r:embed="rId2"/>
          <a:stretch/>
        </p:blipFill>
        <p:spPr>
          <a:xfrm>
            <a:off x="4572000" y="2819520"/>
            <a:ext cx="3857760" cy="2809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228600" y="56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ing approximately 189 men, the Texans fought off the Mexicans, who numbered around 3,000-4,000 troops, for 13 days until the Mexican Army finally overran the Alamo on March 6, 1836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5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1836- Texas is FREE- On their own!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ks to join the U.S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.S. says NO- North doesn’t like slaver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inally YES as slave state        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Annexed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to add in 1845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265783"/>
          <p:cNvPicPr/>
          <p:nvPr/>
        </p:nvPicPr>
        <p:blipFill>
          <a:blip r:embed="rId1"/>
          <a:stretch/>
        </p:blipFill>
        <p:spPr>
          <a:xfrm>
            <a:off x="2438280" y="3216240"/>
            <a:ext cx="357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2" descr=""/>
          <p:cNvPicPr/>
          <p:nvPr/>
        </p:nvPicPr>
        <p:blipFill>
          <a:blip r:embed="rId1"/>
          <a:stretch/>
        </p:blipFill>
        <p:spPr>
          <a:xfrm>
            <a:off x="457200" y="-60480"/>
            <a:ext cx="8229600" cy="1376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1. Mexico starts to welcome Americans into    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its territories (New Mexico &amp;  California)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2.U.S. Annexes (adds) Texas (Upset Mexico)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3. U.S. thought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exas boarder at Rio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Grande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                    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4.  Mexico thought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boarder at  Nueces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River</a:t>
            </a:r>
            <a:r>
              <a:rPr b="0" lang="en-US" sz="33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Picture 5" descr="266400"/>
          <p:cNvPicPr/>
          <p:nvPr/>
        </p:nvPicPr>
        <p:blipFill>
          <a:blip r:embed="rId2"/>
          <a:stretch/>
        </p:blipFill>
        <p:spPr>
          <a:xfrm>
            <a:off x="0" y="3048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1843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exico v. U.S.</a:t>
            </a:r>
            <a:endParaRPr b="0" lang="en-US" sz="4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Many Americans were against the war (Why?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U.S. Wins Easily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eaty of Guadalupe Hidalgo (1848)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ds War ($15 million) Mexico cedes (gave up) California &amp; all of Southwest gives Mexico mill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</a:t>
            </a:r>
            <a:r>
              <a:rPr b="1" lang="en-US" sz="3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adsden Purchase-</a:t>
            </a:r>
            <a:r>
              <a:rPr b="1" lang="en-US" sz="3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($10 million) for S.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Arizona and Southern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ew Mexi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5" descr="266400"/>
          <p:cNvPicPr/>
          <p:nvPr/>
        </p:nvPicPr>
        <p:blipFill>
          <a:blip r:embed="rId1"/>
          <a:stretch/>
        </p:blipFill>
        <p:spPr>
          <a:xfrm>
            <a:off x="0" y="3726000"/>
            <a:ext cx="4419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378000" y="-12600"/>
            <a:ext cx="8235720" cy="823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** Native Americ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President Jackson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wanted to open up the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nd  from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eorgia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ississippi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for farming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ian Removal Act of 1830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Pass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Congr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Order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ians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to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give up lands East of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Mississippi to trad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for land in Oklaho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BAD LAND!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3" name="Picture 9" descr="266321"/>
          <p:cNvPicPr/>
          <p:nvPr/>
        </p:nvPicPr>
        <p:blipFill>
          <a:blip r:embed="rId2"/>
          <a:srcRect l="7111" t="15947" r="2370" b="9568"/>
          <a:stretch/>
        </p:blipFill>
        <p:spPr>
          <a:xfrm>
            <a:off x="0" y="3276720"/>
            <a:ext cx="4870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-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Cheroke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Refu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Cherokee sue i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Supreme Court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o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op removal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Jackson ignores ord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1835- some Cherokee sign treaty but most of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17,000 do not agre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nd will not accept 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2.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ail of Tears: 1838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Trail from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eorgia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Oklahoma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. Many die dur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800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mile march, treated bad by soldiers, hungry, cold, diseas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Forced Out: Jackson Us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ilitary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– Sends 7,000 troops in to force remova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08800" cy="1146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8" name="Picture 5" descr="The Trail of Tea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he Trail of Tears, historical oil painting by Max D. Standley"/>
          <p:cNvPicPr/>
          <p:nvPr/>
        </p:nvPicPr>
        <p:blipFill>
          <a:blip r:embed="rId4"/>
          <a:stretch/>
        </p:blipFill>
        <p:spPr>
          <a:xfrm>
            <a:off x="3505320" y="2971800"/>
            <a:ext cx="54864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** Manifest Destiny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840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– Belief that the U.S. and it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people had the right to 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lonize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”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and use all territory from Atlantic to Pacific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ountain Men: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Early explorers head into Louisian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Send stories and goods back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Led people to explore the Wes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80000"/>
              </a:lnSpc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. 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 Antiqua"/>
              </a:rPr>
              <a:t>Louisiana Purchas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1.Purchased from France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-  1803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-$15 Million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(Napoleon Sells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2.  Geographic Loc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*East- Mississippi River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4" name="Picture 5" descr="an illustration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006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Promise of rich land in Orego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Oregon Trail-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ough trail, harsh conditions, not enough food, people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DIE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Both U.S. and Great Britain said they owned Orego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U.S. adds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5,000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more people &amp; British don</a:t>
            </a:r>
            <a:r>
              <a:rPr b="1" lang="ja-JP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1846 agreement to set border at the </a:t>
            </a:r>
            <a:r>
              <a:rPr b="1" i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49th Parallel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Oregon, Washington, Idaho, Wyoming, Montana.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Picture 5" descr="291464"/>
          <p:cNvPicPr/>
          <p:nvPr/>
        </p:nvPicPr>
        <p:blipFill>
          <a:blip r:embed="rId2"/>
          <a:stretch/>
        </p:blipFill>
        <p:spPr>
          <a:xfrm>
            <a:off x="1676520" y="990720"/>
            <a:ext cx="5715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IFORNIA!!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After Guadalupe Hidalgo (1848): belongs to U.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LD RUSH!! 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1848/49  (49</a:t>
            </a:r>
            <a:r>
              <a:rPr b="1" lang="ja-JP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rs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Gold found at Sutter</a:t>
            </a:r>
            <a:r>
              <a:rPr b="1" lang="ja-JP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Mill 1848 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100,000 people come between 1848-1849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Boomtowns: No Government /Rough Town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coming a State:  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1850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*</a:t>
            </a:r>
            <a:r>
              <a:rPr b="1" lang="en-US" sz="3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anned Slavery: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eated trouble in Congress!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4" name="Picture 5" descr="265717"/>
          <p:cNvPicPr/>
          <p:nvPr/>
        </p:nvPicPr>
        <p:blipFill>
          <a:blip r:embed="rId1"/>
          <a:stretch/>
        </p:blipFill>
        <p:spPr>
          <a:xfrm>
            <a:off x="380880" y="228600"/>
            <a:ext cx="8502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265769"/>
          <p:cNvPicPr/>
          <p:nvPr/>
        </p:nvPicPr>
        <p:blipFill>
          <a:blip r:embed="rId1"/>
          <a:stretch/>
        </p:blipFill>
        <p:spPr>
          <a:xfrm>
            <a:off x="304920" y="457200"/>
            <a:ext cx="8556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-18432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Book Antiqua"/>
              </a:rPr>
              <a:t>3.  Exploration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              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*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Lewis &amp; Clark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Job:  Explore the new territory of Louisiana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Find a North West Passage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Find the true size of the territory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Discover Native Americans.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Describe Natural Resource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*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* Sacagawea-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Indian Woman,  Hired to be guide,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learned English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839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acajawea shows Lewis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&amp; Clark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rough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e Louisiana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urchas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5" descr="288021w"/>
          <p:cNvPicPr/>
          <p:nvPr/>
        </p:nvPicPr>
        <p:blipFill>
          <a:blip r:embed="rId2"/>
          <a:stretch/>
        </p:blipFill>
        <p:spPr>
          <a:xfrm>
            <a:off x="4191120" y="1676520"/>
            <a:ext cx="4952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ustrial Revolution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Creation of a factory system and use of  mechanical tools to improve life and productio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Cotton Gin 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y Eli Whitney:1793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 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Steam Boat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5" descr="288026w"/>
          <p:cNvPicPr/>
          <p:nvPr/>
        </p:nvPicPr>
        <p:blipFill>
          <a:blip r:embed="rId2"/>
          <a:stretch/>
        </p:blipFill>
        <p:spPr>
          <a:xfrm>
            <a:off x="6095880" y="4095720"/>
            <a:ext cx="3048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27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New Land means they can move!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roads and the 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NEW RAILROAD!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1"/>
          <a:stretch/>
        </p:blipFill>
        <p:spPr>
          <a:xfrm>
            <a:off x="835200" y="-55440"/>
            <a:ext cx="7930800" cy="884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urope was in a war, and needed supplies from U.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eople in U.S. losing $$/ Supplies were cut of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ritish v. United States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itish help Native Americans to attack American sett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War Hawks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anted the U.S. to fight G.B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 they like wa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itish burn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ashington D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5" descr="287517w"/>
          <p:cNvPicPr/>
          <p:nvPr/>
        </p:nvPicPr>
        <p:blipFill>
          <a:blip r:embed="rId2"/>
          <a:stretch/>
        </p:blipFill>
        <p:spPr>
          <a:xfrm>
            <a:off x="5486400" y="4800600"/>
            <a:ext cx="3048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1:55:44Z</dcterms:created>
  <dc:creator>CCSD</dc:creator>
  <dc:description/>
  <cp:keywords/>
  <dc:language>en-US</dc:language>
  <cp:lastModifiedBy>Mobile Student</cp:lastModifiedBy>
  <dcterms:modified xsi:type="dcterms:W3CDTF">2015-02-13T00:53:03Z</dcterms:modified>
  <cp:revision>92</cp:revision>
  <dc:subject/>
  <dc:title>Westward Expans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775751033</vt:lpwstr>
  </property>
</Properties>
</file>